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notesSlide8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DE62-8EB5-452F-A4A1-067894B605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3107-1625-4D48-B6DE-71400D7FFB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FFF0-A029-45BB-833F-2CE9390383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FF76-F25A-4302-8914-A85CAF6C5D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58A2-740D-4E9A-A853-9DC7B0C118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5D63-7E71-43F8-A4BB-549F4A003B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54CF-736F-4AE1-9E3D-5CD73EC713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0B74-71BF-4019-95C6-6DED0D79B7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35CE-B7F2-4AE6-AC44-1533CDAD54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9191-B61C-4474-8E6D-0A0C945D2C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905D-0D31-46A2-83F3-90087512B7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98BA-57DF-4CA0-A1EE-DA7BF2FA25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6CEF-49C9-4D2D-8419-4B2BF9814E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6F7C-5D3C-40EC-8D66-25045A26E7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AA72-AF7E-4122-9613-E9CB62D925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DB3B-75CD-4DF8-8B57-2ABC06232D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18A7-6418-46F2-969E-FAF27FFBF1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7EBE-1412-45B6-9C5C-B73166A643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AEC1-2126-4A8B-909D-20C75DFDB7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E280-C2FF-4E25-ADAD-C9FEB6F5D6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5B9D-573D-413A-A67A-3432AE9780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E354-C562-4EE0-97D1-75DDEFA759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B4B8-D48A-499C-95C6-3C172C43D8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6248-7BC5-4D9C-9496-2D4D3E8D29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56A4-2E04-4149-8B85-53A4E6088A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6304-B0B5-42F5-A7BE-30D77A2C38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898C-C14D-436A-84EC-11D565BEFA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C211-A3EC-4724-B26D-E0A928B003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462A-54FD-4ABE-8AEC-E854651C3E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A478-3621-4285-8E87-139E4ED3C7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DC20-D1B5-47BB-A580-4DADACB237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A180-15FB-47C2-A90C-9771FEF22A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787D-D66C-47CB-94FB-E919660FDA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4163-E960-43BC-ACB9-18C79622BC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68CA-00BA-4B8C-B41E-570B9DA2F4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3A8F-3956-415D-97FA-C4FAC2FD70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8510-EEF2-4B4E-85BB-14403F042A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29F5-82D6-4EC9-B185-6EECE04300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FB28-D57A-4D3C-B866-8766975D6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8963-09AD-44A2-A5CF-5E73DEDE8A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F690-16C8-4445-88FC-CA7258CF60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EF0C-B1A8-44DB-9583-923FC274BB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0F43-452C-4034-895F-699117C4BA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985B-5BEB-4914-B49A-5E3B182F81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546A-1B50-4EDF-8BEE-C43AC318CC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E7F2-821A-4977-BB3F-24680F2275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C15D-3B41-4880-B807-D8E85DC06E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4F20-7E65-4ED4-B5A9-89D87E809A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5DE1-F0D2-4514-B052-71C7DF3424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621A-935E-43BB-AF4C-D3F8D1E84D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C820-D94F-4177-BC81-94D5FDFE10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E531-81B4-4FF7-AE2F-5E3FBBB49A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2DE1-F6FF-4C0F-9068-F218223A9C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BCDA-E97D-41EC-A951-81DEA788BD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CB5D-F242-4F1B-88F0-7911442AC6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A8EC-990F-4633-8D68-2F94BD4987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4140-777B-4846-85E7-B17333C338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1F89-5452-48E0-9394-5FF82B9D7D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4FA9-53DB-483D-ABD6-C9D4D9E4C7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D2D9-D022-4671-8ED2-3392F7E159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955B-C53C-48AD-854D-CFA322395A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DAD6-4F76-4E6B-9523-A565F1A940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DB70-8D93-4466-B2D3-4EEBD1AB22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0442-0DFD-4437-8DCA-18196AA902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D715-78DD-45E8-BB3F-D327EC58F9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FB16-EF66-41E9-8D81-34C38E359C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B05A-52A6-45C8-BCD7-780FDC542B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F398-EC90-46F7-8F77-EFAE4E958B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4EA2-C707-476D-82B9-05D7654A82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E1F7-4C8D-4A00-B369-13417BEE38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38E2-ABF3-4A5C-96F1-374E085D23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5681-FB6B-459F-8F13-B36BF3E012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48B2-BFD1-4F01-B043-6D73571ED4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C33E-43FB-4920-8B7B-93F93A10F7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4381-70A5-44B0-9C1C-48C9B7F98E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29C8-0518-4498-A4AB-74907BA78D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95AF-DA1A-4D75-B896-B1438A998A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74C6-EBD0-4F10-BC8B-5621312E11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0111-14A2-4B62-9A8A-55C8FC9C7B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B9E8-01C7-4C89-8BDC-A17CF70BE8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8F17-5CFF-49BE-A320-9818384481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C772-67C2-48D4-B112-E2C956C613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FF36-6247-4774-B67E-EB02942671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72F2-B63B-437C-8091-D0ADC98EB0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9ACC-90DF-44D7-A4CD-48ACC1167A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A1EE-08FB-46FC-A22E-1651BB6EEF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7B25-E77C-4E8D-ACD4-1CE0A826F0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68D5-1C9B-420F-B7CD-07FA90A23C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7EA0-1858-4D0B-8C3D-2F3307398E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024A-FA90-42A3-B9EB-A23207D9D0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EBEA-79C4-46DF-8EAD-B1F1BCE677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3D8A-F412-40A5-A186-8B23FE3921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FBFE-A231-4425-A167-C9CAEBD625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69D3-53F3-4FE7-849E-425DFE96CC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83B1-BE15-4A2D-B7FF-519940EFDB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85A6-DCDF-4115-BBDC-5EDE553E48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1158-6EAF-488E-8155-8A2C20212E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8522-0702-4A5C-9B56-2C51BFAF63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7037-2E18-49B4-84B3-8A99328437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F7A3-CF75-4AF5-8795-AF55165033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7926-EFF5-4533-AF48-68E15A6317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173D-77DE-4F07-ACA3-0ED11A5949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AD52-959E-496B-84A6-799124F538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0025-3C26-41CD-B6CF-85F812EE40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9896-489A-42D0-89F6-1C56A860AF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1311-816C-44FD-8A5C-9A1F63494F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0329-2448-434E-ADC0-27AA060D99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002E-7E5D-4237-B1DB-74BE863D63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B538-F94D-42A9-A21D-0B964B7E5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D2FB-0D1C-4D41-9F12-4A7B624263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A9A0-3FF9-4A2A-AFAD-B1CABD1C11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7E0F-5123-438A-9EFF-C29EBF7942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8657-821C-4E03-8E23-6BE256868B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ED05-BE22-4800-929B-E5785D5A08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7FE2-806F-4871-9B5A-67AB3930D5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92B2-C845-420B-90A3-B2EE7CB6A9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CCE3-2878-4207-A3CD-194B61FFB2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5600-695D-4E18-A06F-BB264E41B5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8D45-2C68-484C-8EFB-69A37FC549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08AF-CBBF-411C-9768-F3368E695D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951A-0C3A-492F-B347-ED04758311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A28B-CF3C-417E-BD1A-70B74A138E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2831-4804-4013-933D-F501F24E84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9094-08A1-474D-993A-F37DC1D05F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8EF5-7A65-44DB-82A9-6F12167EFA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71E8-3EC5-4680-8959-86D1465458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53A2-C8C2-4B46-B05B-1570F7D647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5B8-7C9A-4A58-BD26-3F902CDE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49A-43E7-450A-8CFC-495EF780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BF0-CB56-4D2B-8901-8771A7E9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C5F-C3CF-4CF6-AB15-51D09B11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0FB8-697E-424E-9E1B-371DFD36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D453-9A5A-4299-A3DF-7D987DDA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F31-E297-4225-BE54-9DDCF65B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9388-3E82-4212-8C5B-6B572282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FB2-ED6F-437F-B208-3F4C95CD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4EE-875B-4401-9399-2F79B1B4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29DD-889A-4A75-89A6-E1961FCD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232B-EDA0-4038-A9A0-763A9BF1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5A4C-FDB3-4E4C-B4DF-E13B7F83E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тоги ЕГЭ по биологии в 2017 году по Орловской области, анализ заданий ЕГЭ, вызывающих наибольшие трудности у выпускни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228600" y="591120"/>
            <a:ext cx="8686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Каждое из заданий 1, 3, 6 оценивается 1 баллом. Задание считается выполненным верно, если ответ записан в той форме, которая указана в инструкции по выполнению задания. За выполнение каждого из заданий 2, 4, 7, 9, 12, 15, 17, 21 выставляется 2 балла за полное правильное выполнение, 1 балл – за выполнение задания с одной ошибкой (одной неверно указанной, в том числе лишней, цифрой наряду со всеми верными цифрами) ИЛИ неполное выполнение задания (отсутствие одной необходимой цифры); 0 баллов – во всех остальных случаях. За выполнение каждого из заданий 5, 8, 10, 13, 16, 18, 20 выставляется 2 балла, если указана верная последовательность цифр, 1 балл, если допущена одна ошибка, 0 баллов во всех остальных случаях. За выполнение каждого из заданий 11, 14, 19 выставляется 2 балла, если указана верная последовательность цифр, 1 балл, если в последовательности цифр допущена одна ошибка (переставлены местами любые две цифры), 0 баллов во всех остальных случа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228600" y="456120"/>
            <a:ext cx="8610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ние 22 - Применение биологических знаний в практических ситуациях (практико-ориентированное задани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ние 23- Задание с изображением биологического объекта (рисунок, схема, график и др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ние 24 - Задание на анализ биологической информ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ние 25 – на обобщение и применение знаний о человеке и многообразии 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ние 26- на обобщение и применение знаний в новой ситуации об экологических закономерностях и эволюции органического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ние 27- Решение задач по цитологии на применение знаний в новой ситу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ние 28- Решение задач по генетике на применение знаний в новой ситуации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9943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сего заданий - 28. Максимальный первичный балл за работу - 5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ксимальная итоговая оценка по биологии составляет 100 баллов (тестовый бал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ланируется распределение по разделам школьного курса биолог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щая биология -70%, Человек и его здоровье – 15%, Многообразие живых организмов – 1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0" y="-47520"/>
            <a:ext cx="8991720" cy="68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Традиционно наибольшие затруднения вызывают у участников ЕГЭ следующие разделы биологии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обмен веществ в клетке, реакции матричного синтеза, деление клетки, нейрогуморальная регуляция, селекция и биотехнология, генетика, жизненные циклы высших растений, циклы развития животных-паразитов, понятие гаметофита и спорофита, особенности строения различных типов и классов беспозвоночных животных, строение кровеносной системы у животных и человека, экосистемы, многие вопросы по эволюционной теории, строение различных тканей человека, круговорот веществ в биосфере, решение задач по генетике и молекулярной биологии. Вызвали существенные затруднения задания на установление последовательности процессов, протекающих при фотосинтезе, биосинтезе белка, гаметогенезе у растений и живот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304920" y="35424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начитекльные затруднения вызвали задания на решение цитологических и генетических задач, с которым справились около 40% участников. Трудными оказались задачи на определение числа хромосом и ДНК в разных фазах митоза или мейоза, в половых и соматических клетках растений разных отделов. Типичной ошибкой явилось отсутствие умений объяснять полученный результат. Наибольшие затруднения вызвали задачи по генетике на сцепленное насле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5"/>
          <p:cNvSpPr/>
          <p:nvPr/>
        </p:nvSpPr>
        <p:spPr>
          <a:xfrm>
            <a:off x="0" y="255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7" descr="C:\Users\1\Desktop\ЕГЭ, Гущин\get_file (20).png"/>
          <p:cNvPicPr/>
          <p:nvPr/>
        </p:nvPicPr>
        <p:blipFill>
          <a:blip r:embed="rId1"/>
          <a:stretch/>
        </p:blipFill>
        <p:spPr>
          <a:xfrm>
            <a:off x="380880" y="2133720"/>
            <a:ext cx="6782040" cy="32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0" y="194760"/>
            <a:ext cx="792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Рассмотрите предложенную схему. Запишите в ответе пропущенный термин, обозначенный на схеме знаком во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е, кроме двух используется для описания пространственной конфигурации молекулы бел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77020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рм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лобу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ерм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пептидная цеп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дородная 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становите соответствия между видоизменением и органом к которому его относя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981080"/>
            <a:ext cx="8540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оизмен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корнеплод репы                      1. ко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корневище ландыша               2. поб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Клубень картоф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Клубнелуковица гладиол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) луковица л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) корневая шишка георг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становите соответствия между особенностями строения и слоями кож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67816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арактеристик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содержит кровеносные сосу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 содержит волосяную луков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) участвует в образовании ног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) содержит нервные оконч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) содержит ороговевшие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) придает коже эласти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00880" y="1600200"/>
            <a:ext cx="308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и ко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Эпидерм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Де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обенности строения и функции печ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ляется железой внутренне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тавляет собой полый орг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рабатывает пищеварительные фер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ляется самой крупной пищеварительной желез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ет протоки, открывающиеся в 12-перстную киш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рабатывает жел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нализ структуры КИ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1600200"/>
          <a:ext cx="9144000" cy="4711680"/>
        </p:xfrm>
        <a:graphic>
          <a:graphicData uri="http://schemas.openxmlformats.org/drawingml/2006/table">
            <a:tbl>
              <a:tblPr/>
              <a:tblGrid>
                <a:gridCol w="1268280"/>
                <a:gridCol w="1990800"/>
                <a:gridCol w="2227320"/>
                <a:gridCol w="1828800"/>
                <a:gridCol w="182880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ый первичный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количество баллов за задание блока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ля баллов за задание блока 2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-2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-2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 звеньев в детритной цепи п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30148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л водо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икло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акте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фузории-туфель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ид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 процессов жизненного цикла бычьего цепня, начиная выделения созревшего яйца во внешнюю сре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Заглатывание яиц вместе с травой крупным рогатым ско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Употребление финнозного мяса окончательным хозяи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Выделение концевых члеников со зрелыми яйцами во внешнюю сре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Выход в желудке шестикрючной личинки и проникновение в кровеносное ру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Прикрепление к стенке кишечника и рост в длину взрослого черв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Развитие личиночной стадии в финну в мышц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 процессов жизненного цикла человеческой аскариды, начиная с я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ход личинки из яйца в кишечнике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Попадание личинки в ле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Превращение личинки во взрослого черв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Заражение человека созревшими яйц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Созревание личинок в богатой кислородом сре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Вторичное заглатывание личинок в пищеварительный тра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 процессов жизненного цикла печеночного сосальщика, начиная с оплодотворенного яй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лодотворенное яйц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Личинка в малом прудов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Образование ц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Ресничная лич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 Хвостатая лич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 Заглатывание цисты окончательным хозя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 процессов жизненного цикла широкого лентеца, начиная с яй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играция личинки в мыш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Проникновение личинки в цикл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Выход личинки из нос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Развитие личинки в ры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Поедание циклопа рыб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Образование финны в мыш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 жизненного цикла сфагнума, начиная с взрослого 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ние га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Образование короб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Образование зиг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Мейотическое формирование сп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 Формирование гаметоф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 Образование протон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 процессов круговорота азота в биосфере, начиная с атмосферного азота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нтез белков раст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едание растений живот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зотфикс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упление нитратов в корни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ыщение почвы нитра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деление аммиака в поч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зовите зародышевый листок эмбриона позвоночного животного, обозначенный на рисунке цифрой 1? Какие типы тканей, органы или части органов формируются из него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43434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0120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зародышевый листок – эктодер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ткани – эпителиальная и нервн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органы и их части – эпидермис кожи, кожные железы, нервная система (головной и спинной мозг), органы чувст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7028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стадию эмбрионального развития ланцетника, изображенную на рисунке. Какие структуры обозначены цифрами 1 и 2? Из каких зародышевых  листков формируются эти структу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43200" y="2616120"/>
            <a:ext cx="426708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0" y="482760"/>
            <a:ext cx="8839080" cy="9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270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ХАРАКТЕРИСТИКА УЧАСТНИКОВ ЕГЭ ПО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828800"/>
          <a:ext cx="9144000" cy="3352680"/>
        </p:xfrm>
        <a:graphic>
          <a:graphicData uri="http://schemas.openxmlformats.org/drawingml/2006/table">
            <a:tbl>
              <a:tblPr/>
              <a:tblGrid>
                <a:gridCol w="1633680"/>
                <a:gridCol w="815760"/>
                <a:gridCol w="1631880"/>
                <a:gridCol w="817560"/>
                <a:gridCol w="1632240"/>
                <a:gridCol w="979200"/>
                <a:gridCol w="1633680"/>
              </a:tblGrid>
              <a:tr h="630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Учеб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% от общего числа участ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% от общего числа участ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% от общего числа участ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Б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2,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Rectangle 127"/>
          <p:cNvSpPr/>
          <p:nvPr/>
        </p:nvSpPr>
        <p:spPr>
          <a:xfrm>
            <a:off x="152280" y="5144040"/>
            <a:ext cx="8686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Юношей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215 (31%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ушек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78 (69%)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7377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нейрула – стадия формирования у зародыша нервной труб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1- нервная пластинка, формируется из эктодерм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2 – первичная кишка – формируется из энтодер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25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какого процесса, происходящего у животных, изображена на рисунке? Ответ обоснуйте. Назовите период, обозначенный цифро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тип деления, приводящий к образованию клеток в этом периоде. Каково биологическое значение этого типа де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77960" y="3048120"/>
            <a:ext cx="2995920" cy="3809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-4608360" y="446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70200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сперматогенез, так как образуются четыре одинаковые клетки (сперматозоид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период созре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тип деления – мей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мейоз обеспечивает образование гаплоидных клеток а восстановление хромосомного набора вида при их слиянии (постоянство хромосомного набора вида при половом размножен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при мейозе повышается комбинативная изменчив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ите соответствия между характеристиками и функциональными группами организ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5562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арактерис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. образуют первичную продук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 минерализуют органические оста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) образуют органические вещества путем фотосинт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) обеспечивают процесс гниения в поч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) регулируют численность растительноядных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33680" y="1600200"/>
            <a:ext cx="390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ональные        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с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дуц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уц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0" y="-326520"/>
            <a:ext cx="89917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оанализируйте таблицу «Структуры клетки». Заполните пустые ячейки таблицы, используя термины, приведённые в списке. Для каждой ячейки, обозначенной буквой, выберите соответствующий термин из предложенного спи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ктуры кл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1752480"/>
          <a:ext cx="8686800" cy="3054600"/>
        </p:xfrm>
        <a:graphic>
          <a:graphicData uri="http://schemas.openxmlformats.org/drawingml/2006/table">
            <a:tbl>
              <a:tblPr/>
              <a:tblGrid>
                <a:gridCol w="1731960"/>
                <a:gridCol w="3692520"/>
                <a:gridCol w="3262320"/>
              </a:tblGrid>
              <a:tr h="81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ъ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положение в клет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у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_________(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Цитоплаз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иологическое окис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Н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____________ (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ранение и переда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ледствен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летки и организ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ибос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Цитоплаз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____________ (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81"/>
          <p:cNvSpPr/>
          <p:nvPr/>
        </p:nvSpPr>
        <p:spPr>
          <a:xfrm>
            <a:off x="0" y="4817880"/>
            <a:ext cx="769608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писок терми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) Гликолиз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) хлоропл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3) биосинтез белк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4) митохо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5) Транскрипция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6) яд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7) Цитоплазм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8) клеточный 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333360" y="192960"/>
            <a:ext cx="8478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становите правильную последователь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положения участков на спи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вола дерева, начиная от поверхно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) сердцев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) камб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) к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) древес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) про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) лу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ищеварительный сок поджелудочной железы содержит ферменты, которы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иливают перистальтику кишеч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щепляет б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щепляет клетчат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щепляет крахм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ижает концентрацию глюко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щепляет ж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-34920" y="732960"/>
            <a:ext cx="9215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е последовательность стад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я папоротника, начиная с оплодотво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Развитие зарос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Оплодотв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Развитие спороф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) Образование архегониев и антериди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) Образование споранги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) Прорастание сп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311040" y="634320"/>
            <a:ext cx="8521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оторой происходит развитие папоротни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иная со сп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Зиг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Спороф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Сп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) Оплодотв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) Гаметоф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) Образование га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-685800" y="279360"/>
            <a:ext cx="10425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Установите хронологическ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последовате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появления в процессе эволю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перечисленных типов нер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системы животных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-357120" y="2427120"/>
          <a:ext cx="9501120" cy="3870360"/>
        </p:xfrm>
        <a:graphic>
          <a:graphicData uri="http://schemas.openxmlformats.org/drawingml/2006/table">
            <a:tbl>
              <a:tblPr/>
              <a:tblGrid>
                <a:gridCol w="8505720"/>
                <a:gridCol w="9954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иффузная нервная систе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брюшная нервная цепоч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решетчатая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лестничная)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ервная систе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головной и спинной моз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ервная труб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1243080" y="117360"/>
            <a:ext cx="75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инамика результатов ЕГЭ по предмету за последние 3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990720"/>
          <a:ext cx="9144000" cy="5568840"/>
        </p:xfrm>
        <a:graphic>
          <a:graphicData uri="http://schemas.openxmlformats.org/drawingml/2006/table">
            <a:tbl>
              <a:tblPr/>
              <a:tblGrid>
                <a:gridCol w="3956040"/>
                <a:gridCol w="1636560"/>
                <a:gridCol w="1798920"/>
                <a:gridCol w="1752480"/>
              </a:tblGrid>
              <a:tr h="565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рловская обл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15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16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17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е преодолели минимального бал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11,7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18,5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 (15,3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редний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2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олучили от 81 до 100 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9,6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9,06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1,1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олучили 100 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4"/>
          <p:cNvSpPr/>
          <p:nvPr/>
        </p:nvSpPr>
        <p:spPr>
          <a:xfrm>
            <a:off x="0" y="-161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Установите последовательность расположения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беспозвоночных животных в зависимости от слож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нервной системы, начиная с самого низкоорганизованного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2819520"/>
          <a:ext cx="9144000" cy="4038480"/>
        </p:xfrm>
        <a:graphic>
          <a:graphicData uri="http://schemas.openxmlformats.org/drawingml/2006/table">
            <a:tbl>
              <a:tblPr/>
              <a:tblGrid>
                <a:gridCol w="5867280"/>
                <a:gridCol w="3276720"/>
              </a:tblGrid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цифоидные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едуз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ресничные черв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гидроид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малощетинковые черв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асеком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7"/>
          <p:cNvSpPr/>
          <p:nvPr/>
        </p:nvSpPr>
        <p:spPr>
          <a:xfrm>
            <a:off x="0" y="2347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Установите хронологическую последовате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расщепления питательных веществ и друг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процессов в пищеварительном тракте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520" y="2362320"/>
          <a:ext cx="8381880" cy="4494960"/>
        </p:xfrm>
        <a:graphic>
          <a:graphicData uri="http://schemas.openxmlformats.org/drawingml/2006/table">
            <a:tbl>
              <a:tblPr/>
              <a:tblGrid>
                <a:gridCol w="7503840"/>
                <a:gridCol w="878040"/>
              </a:tblGrid>
              <a:tr h="120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 эмульгация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жи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расщепление бел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расщепление углевод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ристеночное пищевар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сасывание продуктов расщеп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Е)  расщепление клетчат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-43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Установите последовательность транспорта жи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к внутренним органам человека, начи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с всасывания жиров в тонком кишеч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2198520"/>
          <a:ext cx="8915400" cy="3962520"/>
        </p:xfrm>
        <a:graphic>
          <a:graphicData uri="http://schemas.openxmlformats.org/drawingml/2006/table">
            <a:tbl>
              <a:tblPr/>
              <a:tblGrid>
                <a:gridCol w="7981920"/>
                <a:gridCol w="933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)  верхняя и нижняя полые ве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равое предсерд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лимфатические капилляры, сосуды и прото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левое предсерд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малый круг кровообращ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Е) артерии большого круга кровообращ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0" y="335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Установите последовательность переда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звуковых волн на слуховые рецеп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1676520"/>
          <a:ext cx="9144000" cy="4481280"/>
        </p:xfrm>
        <a:graphic>
          <a:graphicData uri="http://schemas.openxmlformats.org/drawingml/2006/table">
            <a:tbl>
              <a:tblPr/>
              <a:tblGrid>
                <a:gridCol w="8185320"/>
                <a:gridCol w="9586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олебание перепонки овального ок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раздражение слуховых рецептор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олебание барабанной перепон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олебание жидкости в улитк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формирование нервных импульсов в волосковых клетка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Е)  колебание слуховых косточе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0" y="335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Установите последовательность пере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световых лучей на зрительные рецеп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93720" y="1600200"/>
          <a:ext cx="7459560" cy="4173480"/>
        </p:xfrm>
        <a:graphic>
          <a:graphicData uri="http://schemas.openxmlformats.org/drawingml/2006/table">
            <a:tbl>
              <a:tblPr/>
              <a:tblGrid>
                <a:gridCol w="6678720"/>
                <a:gridCol w="780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рогов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текловидное тел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ередняя камера глаз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хрустал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зрач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Е)  сетчат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Ж) задняя камера глаз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кажите, в какой последовательности происходит передача нервного импульса по дуге условного слюноотделительного рефлекса у человека на зво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уховой центр коры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. Чувствительный ней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 Рецепторы сл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. Временная связ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. Центр слюноот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. Слюнные желе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. Двигательный ней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506520" y="-125640"/>
            <a:ext cx="939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Установите хронологическ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последовате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процессов, происходящих пр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мей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676520"/>
          <a:ext cx="10263240" cy="5181480"/>
        </p:xfrm>
        <a:graphic>
          <a:graphicData uri="http://schemas.openxmlformats.org/drawingml/2006/table">
            <a:tbl>
              <a:tblPr/>
              <a:tblGrid>
                <a:gridCol w="9188280"/>
                <a:gridCol w="107496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)  спирализация хромосо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Б)  расхождение хроматид к полюсам клет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B)  конъюгация гомологичных хромосо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Г)  обмен участками между гомологичными хромосомам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)  расхождение гомологичных хромосом к разным полюсам клет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Е)  расположение пар гомологичных хромосом (бивалентов) в экваториальной плоскости клет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0" y="1688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Установите хронологическую последовате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стадий развития кукушкиного льна, начиная с оплодотво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93840" y="2198520"/>
          <a:ext cx="8750160" cy="4449960"/>
        </p:xfrm>
        <a:graphic>
          <a:graphicData uri="http://schemas.openxmlformats.org/drawingml/2006/table">
            <a:tbl>
              <a:tblPr/>
              <a:tblGrid>
                <a:gridCol w="7834320"/>
                <a:gridCol w="9158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) образование зигот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Б) образование спо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B) формирование половых клет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Г) развитие спорофи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) развитие тонкой зеленой нити — протонем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Е) образование гаметофи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228600" y="34416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Установите хронологическую последовате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процессов, происходящих при полов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размножении покрытосеменных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600200"/>
          <a:ext cx="8001000" cy="4984920"/>
        </p:xfrm>
        <a:graphic>
          <a:graphicData uri="http://schemas.openxmlformats.org/drawingml/2006/table">
            <a:tbl>
              <a:tblPr/>
              <a:tblGrid>
                <a:gridCol w="7162920"/>
                <a:gridCol w="838080"/>
              </a:tblGrid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)  образование микросп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Б)  формирование пыльцевой труб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B)  образование мужского гаметофита, состоящего из двух клеток – генеративной и вегетативн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Г) двойное оплодотвор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) развитие семе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Е) образование двух сперми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ите соответствие между характеристиками и способом деления к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58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отвращает удвоение хромосом в поколениях при половом размнож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водит к образованию соматических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водит к образованию гамет у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еспечивает рост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вод к образованию клеток - копий материн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водит к редукции числа хром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73600" y="1600200"/>
            <a:ext cx="30132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 де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 Мит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Мей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-1872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ичество участников ЕГЭ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набравших минимальное количество баллов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равших от 36 до 100 баллов в 2015-201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год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1295280"/>
          <a:ext cx="9144000" cy="5562720"/>
        </p:xfrm>
        <a:graphic>
          <a:graphicData uri="http://schemas.openxmlformats.org/drawingml/2006/table">
            <a:tbl>
              <a:tblPr/>
              <a:tblGrid>
                <a:gridCol w="1434960"/>
                <a:gridCol w="1851120"/>
                <a:gridCol w="1530360"/>
                <a:gridCol w="1452600"/>
                <a:gridCol w="1460520"/>
                <a:gridCol w="1414440"/>
              </a:tblGrid>
              <a:tr h="1191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Г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участников ЕГЭ, не набравших мин. количество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участников ЕГЭ,  набравших количество баллов в разрезе от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-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-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-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1-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015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8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9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11,7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33,3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30,9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21,4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2,6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016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7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18,5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35,2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27,1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15,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3,4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017г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6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15,3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34,8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6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23,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3,2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42"/>
          <p:cNvSpPr/>
          <p:nvPr/>
        </p:nvSpPr>
        <p:spPr>
          <a:xfrm>
            <a:off x="0" y="461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328680" y="461880"/>
            <a:ext cx="8486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окислительно-восстановительным функция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ого вещества в биосфере относя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газообмен между организмами и внешней сре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образование углеводов при фотосинте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выделение продуктов 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хемосинт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транспира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расщепление органических веществ при дых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тановите соответствие между примером нервной деятельности человека и функцией спинного моз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дача нервного импульса с чувствительного нейрона на двига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дача нервного импульса из спинного мозга в голо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дача нервных импульсов с чувствительных нейронов на встав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дача нервных импульсов от вставочного нейрона к восходящим пу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дача нервных импульсов от вставочных к двигательным нейро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флекторная              2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водник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 человека, в отличие от других млекопитающи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ло расположено вертика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звоночник не имеет изгиб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звоночник образует четыре плавных изги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удная клетка расширена в сторо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удная клетка сжата с б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цевой отдел черепа преобладает над мозгов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тановите соответствия между органом, тканью человека и зародышевым листком из которого он образуется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, тк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р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ле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хрящевая тк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сердечная мыш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600880" y="1600200"/>
            <a:ext cx="308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родышевый лис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. энтоде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. мезоде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2"/>
          <p:cNvSpPr/>
          <p:nvPr/>
        </p:nvSpPr>
        <p:spPr>
          <a:xfrm>
            <a:off x="1066680" y="60948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23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Скорость течения крови в аорте во много раз превышает скорость её течения в капиллярах. Объясните поче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0" y="54216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) аорта разветвляется на множество более мелких сосудов, поэтому их суммарное поперечное сечение во много раз превышает площадь поперечного сечения аор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2) скорость тока крови в сосуде с малым поперечным сечением выше, чем в сосудах с большим поперечным сечением, поэтому в капиллярах кровь течёт медленнее, чем в ао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пределите фазу и тип деления диплоидной клетки, изображённой на рисунке. Дайте обоснованный ответ, приведите соответствующие доказательств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7" descr="метафаза первого деления, мейоз I"/>
          <p:cNvPicPr/>
          <p:nvPr/>
        </p:nvPicPr>
        <p:blipFill>
          <a:blip r:embed="rId1"/>
          <a:stretch/>
        </p:blipFill>
        <p:spPr>
          <a:xfrm>
            <a:off x="2895480" y="2717640"/>
            <a:ext cx="41911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914400" y="91440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 метафаза первого деления, мейоз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 в метафаз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хромосомы расположены над и под плоскостью экватор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) гомологичные хромосомы располагаются в виде бивалентов, что характерно для мейоз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81208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ите тип и фазу деления исходной диплоидной клетки, изображенный на схеме. Дайте обоснованный отве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548640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228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тип – мейоз, фаза – метафаз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в метафазе хромосомы расположены в плоскости эква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гомологичные хромосомы в клетке отсутствуют, набор хромосом гаплоидный, что характерно для метафазы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мейо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личество участников ЕГЭ в регионе по категория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drawingml/2006/table">
            <a:tbl>
              <a:tblPr/>
              <a:tblGrid>
                <a:gridCol w="5715000"/>
                <a:gridCol w="3429000"/>
              </a:tblGrid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участников ЕГЭ по предме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ускников текущего года, обучающихся по программам СО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ускников текущего года, обучающихся по программам СП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ников прошлых л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304920" y="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пределите фазу и тип деления диплоидной клетки, изображённой на рисунке. Дайте обоснованный ответ, приведите соответствующие доказательств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4343400" y="2878200"/>
            <a:ext cx="419112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609480" y="63864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 анафаза первого деления, мейоз I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в анафазе гомологичные двухроматидные хромосомы расходятся к полюсам клетк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) у каждого полюса клетки двухроматидные хромосомы, число хромосом в два раза меньше, чем в исходной клетке, что характерно для мейоза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ите тип и фазу деления исходной диплоидной клетки, изображенной на схеме. Дайте обоснованный ответ, приведите соответствующие доказательства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584440" y="3200400"/>
            <a:ext cx="3075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тип – мейоз, фаза – телофаза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в телофазе 1 образуются два ядра (две клетки) , хромосомы двухроматид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набор хромосом в новых ядрах гаплоидный, гомологичные хромосомы отсутствуют, что характерно для мейо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0" y="3038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тип и фазу деления клетки, изображенной на рисунке. Ответ обоснуйте. Какие процессы происходят в этой фаз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676520" y="2254320"/>
            <a:ext cx="5333760" cy="37875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69840" y="4522680"/>
            <a:ext cx="90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685800" y="91440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анафаза мито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у полюсов клетки располагаются гомологичные однохроматидные хромосомы, поэтому это мито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в эту фазу происходит разделение центромер, сестринские хромосомы расходятся к полюсам клет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0" y="68544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 происходит преобразование энерг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лнечного света в световой 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мновой фазах фотосинтеза 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нергию химических связей глюкозы? Ответ поясни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0" y="2307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. энергия солнечного света преобразуется в энергию возбужден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лектронов хлорофил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. Энергия возбужденных электрон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образуется в энергию макроэргических связей АТФ(световая фаза), часть энергии используется для образования НАДФ Н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). энергия АТФ превращается в энерг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имических связей молекулы глюкозы (темновая фаз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0" y="1676160"/>
            <a:ext cx="8915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оследите путь вод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световой и темновой стад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отосинтеза от момента е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разования до синтеза глюкоз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0" y="14724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световой стадии фотосинтеза под действием солнечного света происходит фотолиз воды и образуются ионы водор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в световой фазе происходит соединение водорода с переносчиком НАДФ+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разование НАДФ 2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) в темновой стадии водород 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ДФ 2Н используется в реак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осстановления промежуточ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единений из которых синтезируется глюко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личество участников по типам О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600200"/>
          <a:ext cx="9144000" cy="4919760"/>
        </p:xfrm>
        <a:graphic>
          <a:graphicData uri="http://schemas.openxmlformats.org/drawingml/2006/table">
            <a:tbl>
              <a:tblPr/>
              <a:tblGrid>
                <a:gridCol w="7543800"/>
                <a:gridCol w="1600200"/>
              </a:tblGrid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участников ЕГЭ по предмету, Из ни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ускники средних общеобразовательных шко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ускники средних общеобразовательных школ с углубленным изучением предме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ускники гимназ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ускники лицее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ускники вечерних (сменных) общеобразовательных шко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ускники общеобразовательных школ – интерн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ускники других образовательных организац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0" y="63360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Где располагаются центры нервной регуляции мочеиспускания в организме человека? Как осуществляется регуляция этого процесс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0" y="0"/>
            <a:ext cx="9144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) центр безусловно-рефлекторной регуляции расположен в спинном моз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2) центр условно-рефлекторной регуляции расположен в коре больших полушарий головного моз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3) при заполнении мочевого пузыря, рецепторы посылают импульсы в центр безусловного мочевыделения, что обеспечивает рефлекторное сокращение стенок мочевого пузы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4) высшие мозговые центры в коре больших полушарий головного мозга регулируют мочеотделение, задерживая или усилива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0" y="13788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Хромосомный набор соматических клеток пшеницы равен 28.  Определите хромосомный набор и число молекул ДНК в одной из клеток семязачатка перед началом мейоза, в анафазе мейоза I и анафазе мейоза II. Объясните какие процессы происходят в эти периоды и как они влияют на изменение числа ДНК и хромос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-120240" y="644040"/>
            <a:ext cx="93812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. перед мейозом: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28,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В анафазе 1: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28,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56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 полюсам расходятся гомологич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хромосо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. в анафазе 2: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28,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28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 полюсам расходя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естринские хромосомы-хроматид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 каждому полюсу идет по 14 хромос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 flipH="1">
            <a:off x="0" y="162684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ой хромосомный набор характер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ля клеток эндосперма семени 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истьев цветкового раст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ъясните полученные результа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-338040" y="819360"/>
            <a:ext cx="9816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летках эндосперма – 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а в клетк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стьев –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эндосперм развивается из клет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разованной от слия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нтральной клетки зародышевого мешка (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 и одного из спермиев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 листья развива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 клеток зародыша., а зародыш формируется из зиготы, образованной от слияния спермия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 и яйцеклетки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51920" y="0"/>
            <a:ext cx="899172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вестно, что все виды РНК синтезируются на ДНК-матрице. Фрагмент молекулы ДНК, на которой синтезируется участок центральной петли тРНК, имеет следующую последовательность нуклеотидов: ЦГТТГГГЦТАГГЦТТ. Установите нуклеотидную последовательность участка тРНК, который синтезируется на данном фрагменте, и аминокислоту, которую будет переносить эта тРНК в процессе биосинтеза белка, если третий триплет соответствует антикодону тРНК. Ответ поясните. Для решения задания используйте таблицу генетического к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0" y="38700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уклеотидная последователь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частка тРНК ЦААЦЦЦГАУЦЦГА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) нуклеотидная последова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нтикодона ЦГА (третий триплет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оответствует кодону на иРНК ГЦ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) по таблице генетического к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му кодону соответствует аминокислота АЛА , которую будет переносить данная тРН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0" y="43704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ой хромосомный набор характерен д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леток пыльцевого зерна и спермиев сосны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ъясните, из каких исходных клеток и в результа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ого деления образуются эти клет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281880" y="367560"/>
            <a:ext cx="8578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клетки пыльцевого зерна сос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спермии имеют гаплоид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бор хромосом (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клетки пыльцевого зерна сос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виваются из гаплоид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кроспор путем мито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Спермии сос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виваю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 клеток пыльцевого зер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генеративной клетки) путем мито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Диаграмма 1" descr=""/>
          <p:cNvPicPr/>
          <p:nvPr/>
        </p:nvPicPr>
        <p:blipFill>
          <a:blip r:embed="rId1"/>
          <a:srcRect l="0" t="0" r="0" b="-102"/>
          <a:stretch/>
        </p:blipFill>
        <p:spPr>
          <a:xfrm>
            <a:off x="0" y="838080"/>
            <a:ext cx="91440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0" y="11368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 чем проявляется взаимосвязь стро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и функций гортани человека? Ответ поясни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1. гортань – полый орган, образованный хрящами и мышцами, обеспечивает проведение воздуха из носоглотки в трахе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дгортанник – хрящ, который закрывает вход в дыхательные пути при глота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. между хрящами имеется голосовая щель с голосовыми связками, которые участвуют в голосообразова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0" y="9583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отличается гуморальная регуляция процессов жизнедеятельности человека от нервной? Приведите не менее трех отлич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1. осуществляется с помощью гормонов и других химических веществ, в отличие от нервной, которая осуществляется с помощью нервных импульс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2. гормоны доставляются кровью ко всем клеткам тела, тканям и органам, а не по нервным волокн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. ответная реакция наступает медленнее, но продолжается более длительное время по сравнению с нервной регуляц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0" y="77436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ясните, почему безусловные рефлексы относят к видовым признакам поведения животных, какова их роль в жизни животных. Как они сформировалис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1. безусловные рефлексы врожденные, обусловлены генетически для каждого вида (геномом вид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2. безусловные рефлексы обеспечивают приспособления организмов к постоянно действующим факторам внешней сре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. они сформировались в процессе эволюции организмов (вид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0" y="103608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ие важные ароморфозы сопровождали развитие организмов на Земле в начале биологической эволюции? Укажите не менее четырех ароморфных признаков и их значение в эволю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0" y="60948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. появление фотосинтеза обеспечило первичный синтез органических веществ из неорганических, накопление кислорода в воде и атмосфере, образование озонового экр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. появление аэробного типа обмена веществ обеспечило синтез большого количества АТФ и снабжение организмов энерг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 половой процесс привел к появлению у организмов разнообразных признаков – материал для эволю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явление ядра и эукариотических организ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чему снижение численности вида может стать причиной его вымирания? Приведите не менее трех причин. Ответ поясни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9144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Уменьшается вероятность встречи разнополых особей в период размн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Возникает нежелательное близкородственное скрещивание, что снижает жизнеспособность особей, так как вредные рецессивные мутации могут проявиться в гомозиготном состоя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Чем ниже численность, тем выше вероятность смертности от случайного фак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446400"/>
            <a:ext cx="914400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Вариант экзаменационной работы по биологии состоит из двух частей и включает 28 заданий, сгруппированные по уровню сложнос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Часть 1 содержит 21 задание двух уровней сложности: 10 заданий базового уровня и 11 заданий повышенного уровн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7 – с множественным выбором с рисунком или без него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6 – на установление соответствия с рисунком или без него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3 – на установление последовательности систематических таксонов, биологических объектов, процессов, явлений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 – на решение биологических задач по цитологии и генетик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 – на дополнение недостающей информации в схем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 – на дополнение недостающей информации в таблиц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 – на анализ информации, представленной в графической или табличной форме</a:t>
            </a:r>
            <a:r>
              <a:rPr b="1" lang="en-US" sz="25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рестили самцов мух дрозофил с серым телом и нормальными крыльями с самками с чёрным телом и укороченными крыльями. В первом поколении все особи были единообразными с серым телом и нормальными крыльями. При скрещивании полученных гибридов между собой появилось 75% особей с серым телом и нормальными крыльями и 25% с чёрным телом и укороченными крыльями. Составьте схему решения задачи. Определите генотипы родителей и потомства F1 и F2. Объясните характер наследования призна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кукурузы рецессивный ген «укороченные междоузлия» находится в одной хромосоме с рецессивным геном «зачаточная метелка». При проведении анализирующего скрещивания дигетерозиготного растения, имеющего нормальные междоузлия и нормальную метелку, получено 48% с нормальными междоузлиями и нормальной метелкой, 48% с укороченными междоузлиями и зачаточной метелкой, 2% с нормальными междоузлиями и зачаточной метелкой и 2% с укороченными междоузлиями и нормальной метелкой. Определите генотипы родителей и потомства. Составьте схему решения задачи. Объясните полученные результаты. Какой закон наследственности проявляется в данном случае?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0" y="18180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скрещивании дигетерозиготного растения кукурузы с окрашенным семенем и крахмалистым эндоспермом и растения с неокрашенным семенем и восковидным эндоспермом в потомстве получилось расщепление по фенотипу: 9 растений с окрашенным семенем и крахмалистым эндоспермом семян; 42 – с окрашенным семенем и восковидным эндоспермом; 44 – с неокрашенным семенем и крахмалистым эндоспермом; 10 – с неокрашенным семенем и восковидным эндоспермом. Составьте схему решения задачи. Определите генотипы исходных особей, генотипы потомства. Объясните формирование четырёх фенотипических груп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ны длины ног и длины крыльев находятся у дрозофилы в одной хромосоме. Скрещивали самку дрозофилы с короткими крыльями, нормальными ногами и самца с нормальными крыльями, короткими ногами; все полученные гибриды F1 имели нормальные крылья и нормальные н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учившихся в F1 самцов скрестили с исходной родительской особью. В потомстве получилось расщепление по фенотипу и генотипу в отнош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: 1. Составьте схемы решения задачи. Определите генотипы родительских особей, генотипы и фенотипы потомков. Объясните формирование двух фенотипических групп во втором скрещивании. Какой закон наследственности проявляется во втором скрещива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0" y="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решения задачи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первое скрещ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♀a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 ×                         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A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откие крыл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рмальные ноги     нормальные крылья,   короткие н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 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а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рмальные крылья, нормальные ног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второе скрещ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♀a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 ×                            ♂Аа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откие крыл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рмальные ноги         нормальные крылья,    нормальные н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                                             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отипы и фенотипы полученного потом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аВb – нормальные крылья, нормальные ног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aBB – короткие крылья, нормальные ног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присутствие в потомстве двух групп особей в равных дол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тором скрещивании объясняется тем, что гены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знаков находятся в одной хромосоме (аллель a сцеп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аллелем B; аллель A – с аллелем b), кроссинговер между н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идёт. Проявляется закон сцепленного наследования призн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31176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зображённой на рисунке родословной установите характер наследования признака, выделенного чёрным цветом (доминантный или рецессивный, сцеплен или не сцеплен с полом), и обоснуйте его. Определите генотипы людей 1, 2 и 3. Установите, с какой вероятностью женщина 4 будет гетерозигот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https://bio-ege.sdamgia.ru/get_file?id=22804"/>
          <p:cNvPicPr/>
          <p:nvPr/>
        </p:nvPicPr>
        <p:blipFill>
          <a:blip r:embed="rId1"/>
          <a:stretch/>
        </p:blipFill>
        <p:spPr>
          <a:xfrm>
            <a:off x="685800" y="3962520"/>
            <a:ext cx="7543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380880" y="12456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зображённой на рисунке родословной установите характер наследования признака, выделенного чёрным цветом (доминантный или рецессивный, сцеплен или не сцеплен с полом), и обоснуйте его. Определите генотипы людей 1, 2 и 3. Установите вероятность рождения у женщины 4 следующего ребёнка с признаком, выделенным на рисунке родословной чёрным цветом, если она выйдет замуж за человека, имеющего этот призн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https://bio-ege.sdamgia.ru/get_file?id=22814"/>
          <p:cNvPicPr/>
          <p:nvPr/>
        </p:nvPicPr>
        <p:blipFill>
          <a:blip r:embed="rId1"/>
          <a:stretch/>
        </p:blipFill>
        <p:spPr>
          <a:xfrm>
            <a:off x="0" y="3505320"/>
            <a:ext cx="8534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380880" y="243000"/>
            <a:ext cx="83822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зображённой на рисунке родословной определите и обоснуйте генотипы родителей, потомков, обозначенных на схеме цифрами 1, 6, 7. Установите вероятность рождения ребёнка с исследуемым признаком у женщины под № 6, если в семье её супруга этот признак никогда не наблюда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https://bio-ege.sdamgia.ru/get_file?id=20015"/>
          <p:cNvPicPr/>
          <p:nvPr/>
        </p:nvPicPr>
        <p:blipFill>
          <a:blip r:embed="rId1"/>
          <a:stretch/>
        </p:blipFill>
        <p:spPr>
          <a:xfrm>
            <a:off x="457200" y="3809880"/>
            <a:ext cx="8077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01-01T06:34:2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